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FFC-138E-46B3-BC2B-ACE4A74F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9A0-058C-4415-97E9-515DC457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082-D04A-4AF3-9C3E-1F855D22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448-1C35-4505-9C21-7AD90024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798-9CCE-4A01-B818-75584D64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D7B-9032-4CCD-8C11-2F35CB10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6F2-C7CF-4457-B611-6C297B62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D19-26CB-41E1-B96C-6C27451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403-9160-4961-A1F4-A5F81046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80E-E11C-46F0-97D7-3A72868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F13-89B6-4BB0-9632-9AF7A21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4D7-D1BC-4DB7-8257-4D466669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4AA3-6BD4-4EF8-BCB5-3459B9A1F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-76320"/>
            <a:ext cx="70866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1:53:00Z</dcterms:created>
  <dc:creator>Patrick J. Mooney</dc:creator>
  <dc:description/>
  <dc:language>en-US</dc:language>
  <cp:lastModifiedBy>Patrick J. Mooney</cp:lastModifiedBy>
  <dcterms:modified xsi:type="dcterms:W3CDTF">2010-10-04T22:22:19Z</dcterms:modified>
  <cp:revision>5</cp:revision>
  <dc:subject/>
  <dc:title>Slide 1</dc:title>
</cp:coreProperties>
</file>